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F2A88A-01AE-4965-A5B8-AA305FE8E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846F64-5ECF-4E39-8081-08DD608CCC2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a, Cole, A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552C67-B48F-441C-8F6C-1793EE0703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E24CE1-DD4A-4AFD-BFBA-E44BC97EA3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93549A-7ABC-4551-89E3-DAF82EC56B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C819E0-7A50-4F33-8870-5921490899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a, Sha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EAB981-1E71-4117-A65E-E4571BFB09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CF0749-D6FF-4BBB-A3E5-AAFA62B8B9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31F3CC-FFF1-43FA-B7C4-73F69370E4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ky, Sha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BD9F5B-33D9-415C-8F35-0615FF5BB5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ky, Sha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C4AE79-341A-4B55-ACAF-5CA843DF14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A1585E-02C4-4FF9-878E-58F99E178F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71393B-C0DB-46ED-9AC1-9D20D8C90E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79B2-2DC7-4D97-885B-24A821CD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8C47-5AD8-4FB2-A028-09D11296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2E8B-6BD2-4ED8-8F28-2122211A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F669-79BC-45A0-93BE-063258CF3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6353-897D-4C7C-869B-22A869FE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3D9E-1D17-499C-80CF-7EE2B86F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814E-D3FA-404F-9035-775D3E74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62BF-1679-4D6C-A7E8-3B3A2A34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F6D7-FA43-4DC7-8A90-88072778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4794-9FE9-4A68-A21F-176D5684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B1BA-4420-40FE-80BF-119DA365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DB9B-929B-46EF-9309-92DCEE7E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1C9E-748E-48C7-9F73-40380FA7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5237-E677-42EB-8940-79A88346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F6FA-8902-44C0-9C9E-88EAC973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BCDE-C8A8-48E1-BB25-C06280825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EDCD-96EC-43E2-8577-BC0861CBF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6B221-F462-4B8E-A3DA-244ECECA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D319E-7DC8-4230-A89A-072CC471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1D1D5-B852-4A19-8DF8-B415ACC4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210D6-1882-4E31-9A53-4F939D7C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89002-96AA-4103-9B6E-A7E0CFF9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B0F7-95C7-4BAD-A4ED-47D5B2D8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198E1-AFD6-4A0B-83DD-BF826066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3F518-3DB9-4E26-AAF9-80B8934D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674AF-E5FD-42B3-8DEF-9E495475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7D144-0384-49AF-8269-155F70C4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B3B90-747D-4C21-9DA4-FB83FC86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50BC8-2F23-4E9A-9FC1-B53980D8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D8736-DCB3-420F-A887-3E8C20A8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6206-41D4-4A0C-B59D-25749162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00E9-2977-4143-B8DD-559C6A2C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A3D3-6CC9-4DB9-9E8B-FE81AFB3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D1F5-3D60-4DA8-8197-0122C5BE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96F8-7FCD-45A8-B23A-AA5FD930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C09C-73F8-44A0-B59A-F9514573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157624-2012-4D9A-9B84-F53F4C149F8D}" type="slidenum">
              <a:rPr b="1" lang="en-US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C225A1-4260-4A88-99E9-C6DDEBB6ACFA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8F2485-A0D1-4EF8-BAC7-2636C7D5B047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lincolnwtl.wikispaces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rezi.com/xlasfrzrhvd0/cambodian-cuisine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2000"/>
            <a:ext cx="777240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4030200"/>
            <a:ext cx="68580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282e"/>
                </a:solidFill>
                <a:latin typeface="Arial Black"/>
              </a:rPr>
              <a:t>WRITE TO LEAR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282e"/>
                </a:solidFill>
                <a:latin typeface="Arial Black"/>
              </a:rPr>
              <a:t>FEB. 29, 2012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http://www.myteacherpages.com/webpages/klauridsen/photos/logo/Maroon-White-Lincoln.jpg"/>
          <p:cNvPicPr/>
          <p:nvPr/>
        </p:nvPicPr>
        <p:blipFill>
          <a:blip r:embed="rId1"/>
          <a:stretch/>
        </p:blipFill>
        <p:spPr>
          <a:xfrm>
            <a:off x="2340000" y="1147680"/>
            <a:ext cx="28573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804960"/>
            <a:ext cx="5791320" cy="94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1282e"/>
                </a:solidFill>
                <a:latin typeface="Arial Black"/>
              </a:rPr>
              <a:t>3 GROUPS OF STRATEGIES</a:t>
            </a:r>
            <a:endParaRPr b="0" lang="en-US" sz="5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5760" y="1752120"/>
            <a:ext cx="8686800" cy="46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Go to the location you chose </a:t>
            </a:r>
            <a:r>
              <a:rPr b="1" lang="en-US" sz="3700" spc="-1" strike="noStrike" u="sng">
                <a:solidFill>
                  <a:srgbClr val="000000"/>
                </a:solidFill>
                <a:uFillTx/>
                <a:latin typeface="Arial"/>
              </a:rPr>
              <a:t>last time 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for the small group strategy session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24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d1282e"/>
                </a:solidFill>
                <a:latin typeface="Arial"/>
              </a:rPr>
              <a:t>Commons: 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admit/exit, MVP, double entry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24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d1282e"/>
                </a:solidFill>
                <a:latin typeface="Arial"/>
              </a:rPr>
              <a:t>Choir Room: 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24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d1282e"/>
                </a:solidFill>
                <a:latin typeface="Arial"/>
              </a:rPr>
              <a:t>Band Room: 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quick write, 12 word summary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1282e"/>
                </a:solidFill>
                <a:latin typeface="Arial Black"/>
              </a:rPr>
              <a:t>NEW WTL STRATEGIES</a:t>
            </a:r>
            <a:endParaRPr b="0" lang="en-US" sz="5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947960"/>
            <a:ext cx="7620120" cy="41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11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ecific genre fram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1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s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1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loom’s Sentence Starte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9581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282e"/>
                </a:solidFill>
                <a:latin typeface="Arial Black"/>
              </a:rPr>
              <a:t>COLLABORATION TIME</a:t>
            </a:r>
            <a:endParaRPr b="0" lang="en-US" sz="4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23520"/>
            <a:ext cx="833112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hare your exampl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velop a writing frame or lis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deas from other teachers can you try in your classe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y common formative assessments for data team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8408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282e"/>
                </a:solidFill>
                <a:latin typeface="Arial Black"/>
              </a:rPr>
              <a:t>COLLABORATION TIME</a:t>
            </a:r>
            <a:endParaRPr b="0" lang="en-US" sz="4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472760"/>
            <a:ext cx="843264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glis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ienc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h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eign Lang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cial Stud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sines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ustrial Tech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247240" cy="61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 Black"/>
              </a:rPr>
              <a:t>-SHARE EXAMPLES</a:t>
            </a:r>
            <a:br>
              <a:rPr sz="4300"/>
            </a:b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Arial Black"/>
              </a:rPr>
              <a:t>-DEVELOP FRAME OR LIST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-USE AS COMMON FORMATIVE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SSESSMENT?</a:t>
            </a:r>
            <a:br>
              <a:rPr sz="3200"/>
            </a:b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Arial Black"/>
              </a:rPr>
              <a:t>-PLACE EXAMPLES IN FOLDER</a:t>
            </a:r>
            <a:endParaRPr b="0" lang="en-US" sz="43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1961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1282e"/>
                </a:solidFill>
                <a:latin typeface="Arial Black"/>
              </a:rPr>
              <a:t>WRAP UP</a:t>
            </a:r>
            <a:endParaRPr b="0" lang="en-US" sz="5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389240"/>
            <a:ext cx="833112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ncoln High School WTL Wik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LincolnWTL –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xt time bring more exampl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 for the parking lot about WTL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282e"/>
                </a:solidFill>
                <a:latin typeface="Arial Black"/>
              </a:rPr>
              <a:t>OBJECTIVES</a:t>
            </a:r>
            <a:endParaRPr b="0" lang="en-US" sz="4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752120"/>
            <a:ext cx="8298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Provide teachers with more Write to Learn strategies to implement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Share Write to Learn examples and collaborate for further implement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282e"/>
                </a:solidFill>
                <a:latin typeface="Arial Black"/>
              </a:rPr>
              <a:t>GOAL…</a:t>
            </a:r>
            <a:endParaRPr b="0" lang="en-US" sz="4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ongterm goal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 Writing in every classroom, every 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mmediate goal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 Get students writ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0320" y="2946240"/>
            <a:ext cx="82803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1282e"/>
                </a:solidFill>
                <a:latin typeface="Arial Black"/>
              </a:rPr>
              <a:t>FREQUENTLY ASKED QUESTIONS ABOUT WTL</a:t>
            </a:r>
            <a:endParaRPr b="0" lang="en-US" sz="54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6840" y="0"/>
            <a:ext cx="8211960" cy="66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182520">
              <a:spcBef>
                <a:spcPts val="7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teachers motivate students to wr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7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eachers have to grade the writ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7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time will implementing writing strategies ta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7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often do teachers have to use writing strategies in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7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TL strategies can aid the writing teachers already do in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WRITING IN FC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prezi.com/xlasfrzrhvd0/cambodian-cuisine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6840" y="0"/>
            <a:ext cx="8211960" cy="66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182520">
              <a:spcBef>
                <a:spcPts val="7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teachers motivate students to wr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7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eachers have to grade the writ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7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time will implementing writing strategies ta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7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often do teachers have to use writing strategies in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7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TL strategies can aid the writing teachers already do in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7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writing expectations should teachers have with these strateg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1282e"/>
                </a:solidFill>
                <a:latin typeface="Arial Black"/>
              </a:rPr>
              <a:t>ADMIT SLIP </a:t>
            </a:r>
            <a:br>
              <a:rPr sz="4300"/>
            </a:br>
            <a:r>
              <a:rPr b="0" lang="en-US" sz="4300" spc="-1" strike="noStrike">
                <a:solidFill>
                  <a:srgbClr val="d1282e"/>
                </a:solidFill>
                <a:latin typeface="Arial Black"/>
              </a:rPr>
              <a:t>(POST IT NOTES)</a:t>
            </a:r>
            <a:endParaRPr b="0" lang="en-US" sz="43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1752480"/>
            <a:ext cx="8381880" cy="49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 your table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bine your ideas for other possible answers or what you do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w questions you have about WT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84240" y="210960"/>
          <a:ext cx="9009000" cy="6567840"/>
        </p:xfrm>
        <a:graphic>
          <a:graphicData uri="http://schemas.openxmlformats.org/drawingml/2006/table">
            <a:tbl>
              <a:tblPr/>
              <a:tblGrid>
                <a:gridCol w="3002040"/>
                <a:gridCol w="3003480"/>
                <a:gridCol w="3003480"/>
              </a:tblGrid>
              <a:tr h="814680">
                <a:tc>
                  <a:txBody>
                    <a:bodyPr lIns="83160" rIns="83160" tIns="41400" bIns="414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ag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3160" marR="83160">
                    <a:lnL w="5760">
                      <a:solidFill>
                        <a:srgbClr val="7a7a7a"/>
                      </a:solidFill>
                    </a:lnL>
                    <a:lnR w="5760">
                      <a:solidFill>
                        <a:srgbClr val="7a7a7a"/>
                      </a:solidFill>
                    </a:lnR>
                    <a:lnT w="5760">
                      <a:solidFill>
                        <a:srgbClr val="7a7a7a"/>
                      </a:solidFill>
                    </a:lnT>
                    <a:lnB w="5760">
                      <a:solidFill>
                        <a:srgbClr val="7a7a7a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83160" rIns="83160" tIns="41400" bIns="414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3160" marR="83160">
                    <a:lnL w="5760">
                      <a:solidFill>
                        <a:srgbClr val="7a7a7a"/>
                      </a:solidFill>
                    </a:lnL>
                    <a:lnR w="5760">
                      <a:solidFill>
                        <a:srgbClr val="7a7a7a"/>
                      </a:solidFill>
                    </a:lnR>
                    <a:lnT w="5760">
                      <a:solidFill>
                        <a:srgbClr val="7a7a7a"/>
                      </a:solidFill>
                    </a:lnT>
                    <a:lnB w="5760">
                      <a:solidFill>
                        <a:srgbClr val="7a7a7a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83160" rIns="83160" tIns="41400" bIns="414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onstrating Understand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3160" marR="83160">
                    <a:lnL w="5760">
                      <a:solidFill>
                        <a:srgbClr val="7a7a7a"/>
                      </a:solidFill>
                    </a:lnL>
                    <a:lnR w="5760">
                      <a:solidFill>
                        <a:srgbClr val="7a7a7a"/>
                      </a:solidFill>
                    </a:lnR>
                    <a:lnT w="5760">
                      <a:solidFill>
                        <a:srgbClr val="7a7a7a"/>
                      </a:solidFill>
                    </a:lnT>
                    <a:lnB w="5760">
                      <a:solidFill>
                        <a:srgbClr val="7a7a7a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5753160"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: provide all students with a nonthreatening opportunity to respon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engaged in wri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graded, not related to cont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7a7a7a"/>
                      </a:solidFill>
                    </a:lnL>
                    <a:lnR w="5760">
                      <a:solidFill>
                        <a:srgbClr val="7a7a7a"/>
                      </a:solidFill>
                    </a:lnR>
                    <a:lnT w="5760">
                      <a:solidFill>
                        <a:srgbClr val="7a7a7a"/>
                      </a:solidFill>
                    </a:lnT>
                    <a:lnB w="5760">
                      <a:solidFill>
                        <a:srgbClr val="7a7a7a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: help students show their thinking through writ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process the cont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ve writing a plus, check, minus to guide 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7a7a7a"/>
                      </a:solidFill>
                    </a:lnL>
                    <a:lnR w="5760">
                      <a:solidFill>
                        <a:srgbClr val="7a7a7a"/>
                      </a:solidFill>
                    </a:lnR>
                    <a:lnT w="5760">
                      <a:solidFill>
                        <a:srgbClr val="7a7a7a"/>
                      </a:solidFill>
                    </a:lnT>
                    <a:lnB w="5760">
                      <a:solidFill>
                        <a:srgbClr val="7a7a7a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: produce a written piece that goes through the writing proces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given feedback through a rubric with clearly identified levels of profici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boratively sco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7a7a7a"/>
                      </a:solidFill>
                    </a:lnL>
                    <a:lnR w="5760">
                      <a:solidFill>
                        <a:srgbClr val="7a7a7a"/>
                      </a:solidFill>
                    </a:lnR>
                    <a:lnT w="5760">
                      <a:solidFill>
                        <a:srgbClr val="7a7a7a"/>
                      </a:solidFill>
                    </a:lnT>
                    <a:lnB w="5760">
                      <a:solidFill>
                        <a:srgbClr val="7a7a7a"/>
                      </a:solidFill>
                    </a:lnB>
                    <a:solidFill>
                      <a:srgbClr val="d7d7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02:02:19Z</dcterms:created>
  <dc:creator>Sean Eby</dc:creator>
  <dc:description/>
  <dc:language>en-US</dc:language>
  <cp:lastModifiedBy>L-Net</cp:lastModifiedBy>
  <dcterms:modified xsi:type="dcterms:W3CDTF">2012-02-29T17:47:49Z</dcterms:modified>
  <cp:revision>440</cp:revision>
  <dc:subject/>
  <dc:title>APPENDIX: Optional PE Instructional Cue Slides for Presenters</dc:title>
</cp:coreProperties>
</file>